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2997-5C70-4C35-B086-F10A0AD18C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D67-9E52-4EC4-A5E7-AB8FDABC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3ED-4C22-403B-8A49-B471BE04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022-0059-445A-BAC4-62FEAD66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9AC-F72A-4666-AE0B-946F0376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B64-654D-43ED-82DF-113AD07D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63D-2A07-472E-9183-C3476669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656-C568-468E-80CB-C5D6AFF9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19D-5E2F-471F-9742-A52FC426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385-DC88-4E47-83DC-18421C0E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A3A-E423-4A79-9901-12D9D049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258-F8AE-4E58-B75E-C774CE7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644-D13D-4AD2-8DAA-19F9340E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CA15-FA50-4A0B-B6E1-40832054D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5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Заголовок 1"/>
          <p:cNvSpPr/>
          <p:nvPr/>
        </p:nvSpPr>
        <p:spPr>
          <a:xfrm>
            <a:off x="1042920" y="189000"/>
            <a:ext cx="7586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5b0"/>
                </a:solidFill>
                <a:latin typeface="Arial"/>
                <a:ea typeface="Arial"/>
              </a:rPr>
              <a:t>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116000" y="1125360"/>
            <a:ext cx="770400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информ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действия выполняет человек с информаци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человек хранит информа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схема передачи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обработка информации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ходилось ли вам обрабатывать информацию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Заголовок 1"/>
          <p:cNvSpPr/>
          <p:nvPr/>
        </p:nvSpPr>
        <p:spPr>
          <a:xfrm>
            <a:off x="57168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5b0"/>
                </a:solidFill>
                <a:latin typeface="Arial"/>
                <a:ea typeface="Arial"/>
              </a:rPr>
              <a:t>Практическая работа 9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одержимое 1"/>
          <p:cNvSpPr/>
          <p:nvPr/>
        </p:nvSpPr>
        <p:spPr>
          <a:xfrm>
            <a:off x="1116000" y="907920"/>
            <a:ext cx="5111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апустите текстовый процессор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Word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rcRect l="0" t="0" r="0" b="65193"/>
          <a:stretch/>
        </p:blipFill>
        <p:spPr>
          <a:xfrm>
            <a:off x="1116000" y="2421000"/>
            <a:ext cx="7848720" cy="863640"/>
          </a:xfrm>
          <a:prstGeom prst="rect">
            <a:avLst/>
          </a:prstGeom>
          <a:ln w="0">
            <a:noFill/>
          </a:ln>
        </p:spPr>
      </p:pic>
      <p:sp>
        <p:nvSpPr>
          <p:cNvPr id="241" name="Содержимое 1"/>
          <p:cNvSpPr/>
          <p:nvPr/>
        </p:nvSpPr>
        <p:spPr>
          <a:xfrm>
            <a:off x="1071720" y="1700280"/>
            <a:ext cx="8072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 текстовом процессоре создайте таблицу, состоящую из 4 столбцов и 4 строк.</a:t>
            </a: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"/>
          <p:cNvPicPr/>
          <p:nvPr/>
        </p:nvPicPr>
        <p:blipFill>
          <a:blip r:embed="rId2"/>
          <a:stretch/>
        </p:blipFill>
        <p:spPr>
          <a:xfrm>
            <a:off x="6372360" y="907920"/>
            <a:ext cx="561960" cy="608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3"/>
          <a:stretch/>
        </p:blipFill>
        <p:spPr>
          <a:xfrm>
            <a:off x="2916360" y="3357720"/>
            <a:ext cx="338616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Заголовок 1"/>
          <p:cNvSpPr/>
          <p:nvPr/>
        </p:nvSpPr>
        <p:spPr>
          <a:xfrm>
            <a:off x="57168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5b0"/>
                </a:solidFill>
                <a:latin typeface="Arial"/>
                <a:ea typeface="Arial"/>
              </a:rPr>
              <a:t>Практическая работа 9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одержимое 1"/>
          <p:cNvSpPr/>
          <p:nvPr/>
        </p:nvSpPr>
        <p:spPr>
          <a:xfrm>
            <a:off x="1908000" y="836640"/>
            <a:ext cx="5805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аполните таблицу для трёх планет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Юпитер, Земля, Вен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187280" y="1773360"/>
          <a:ext cx="7777440" cy="2925720"/>
        </p:xfrm>
        <a:graphic>
          <a:graphicData uri="http://schemas.openxmlformats.org/drawingml/2006/table">
            <a:tbl>
              <a:tblPr/>
              <a:tblGrid>
                <a:gridCol w="1944720"/>
                <a:gridCol w="1944720"/>
                <a:gridCol w="1943280"/>
                <a:gridCol w="194472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е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метр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стояние от Солнца (млн 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емя обращения вокруг Солн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пит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м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е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Заголовок 1"/>
          <p:cNvSpPr/>
          <p:nvPr/>
        </p:nvSpPr>
        <p:spPr>
          <a:xfrm>
            <a:off x="57168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5b0"/>
                </a:solidFill>
                <a:latin typeface="Arial"/>
                <a:ea typeface="Arial"/>
              </a:rPr>
              <a:t>Итог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116000" y="981000"/>
            <a:ext cx="770400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ам было легко или были труд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то у вас получилось лучше всего и без ошиб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ое задание было самым интересным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 бы вы оценили свою работ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§12 с. 83-86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57280" y="2356920"/>
            <a:ext cx="678672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195280" y="407196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Разнообразие задач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5b0"/>
                </a:solidFill>
                <a:latin typeface="Arial"/>
                <a:ea typeface="Arial"/>
              </a:rPr>
              <a:t>Разнообразие задач обработки ин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одержимое 5"/>
          <p:cNvSpPr/>
          <p:nvPr/>
        </p:nvSpPr>
        <p:spPr>
          <a:xfrm>
            <a:off x="1571760" y="1314360"/>
            <a:ext cx="7286400" cy="15433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Обработка информаци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– это решение некоторой информационной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4"/>
          <p:cNvSpPr/>
          <p:nvPr/>
        </p:nvSpPr>
        <p:spPr>
          <a:xfrm>
            <a:off x="500040" y="15717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5"/>
          <p:cNvSpPr/>
          <p:nvPr/>
        </p:nvSpPr>
        <p:spPr>
          <a:xfrm>
            <a:off x="1071720" y="5315040"/>
            <a:ext cx="7858080" cy="13287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 результате обработки имеющейся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ходной информации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мы получаем новую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ыходную информацию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http://img3.proshkolu.ru/content/media/pic/std/2000000/1210000/1209976-735e6133bb8cc65b.gif"/>
          <p:cNvPicPr/>
          <p:nvPr/>
        </p:nvPicPr>
        <p:blipFill>
          <a:blip r:embed="rId1"/>
          <a:stretch/>
        </p:blipFill>
        <p:spPr>
          <a:xfrm>
            <a:off x="6500880" y="3000240"/>
            <a:ext cx="2000160" cy="2229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http://dzeta.ucoz.ru/3a2ab908b856.png"/>
          <p:cNvPicPr/>
          <p:nvPr/>
        </p:nvPicPr>
        <p:blipFill>
          <a:blip r:embed="rId2"/>
          <a:stretch/>
        </p:blipFill>
        <p:spPr>
          <a:xfrm>
            <a:off x="1857240" y="2881440"/>
            <a:ext cx="4143600" cy="25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5b0"/>
                </a:solidFill>
                <a:latin typeface="Arial"/>
                <a:ea typeface="Arial"/>
              </a:rPr>
              <a:t>Типы обработки ин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Схема 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82771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5b0"/>
                </a:solidFill>
                <a:latin typeface="Arial"/>
                <a:ea typeface="Arial"/>
              </a:rPr>
              <a:t>Систематизация ин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ятиугольник 10"/>
          <p:cNvSpPr/>
          <p:nvPr/>
        </p:nvSpPr>
        <p:spPr>
          <a:xfrm>
            <a:off x="971640" y="1268280"/>
            <a:ext cx="6143400" cy="179100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791000"/>
              <a:gd name="textAreaBottom" fmla="*/ 1791360 h 179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52" y="0"/>
                </a:lnTo>
                <a:lnTo>
                  <a:pt x="21600" y="10800"/>
                </a:lnTo>
                <a:lnTo>
                  <a:pt x="184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истематизировать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нформаци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это значит расположить  её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ятиугольник 11"/>
          <p:cNvSpPr/>
          <p:nvPr/>
        </p:nvSpPr>
        <p:spPr>
          <a:xfrm>
            <a:off x="1835280" y="3860640"/>
            <a:ext cx="6786360" cy="164340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400"/>
              <a:gd name="textAreaBottom" fmla="*/ 1643760 h 16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ри систематизации информации используется способ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сортировк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, то есть размещения её в определённом порядке (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упорядочивание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8"/>
          <p:cNvSpPr/>
          <p:nvPr/>
        </p:nvSpPr>
        <p:spPr>
          <a:xfrm>
            <a:off x="7572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6" descr="http://nephrodin.ru/instructions/image/aHR0cDovL29kbm93YWJpb2xvZ2ljem5hLnNvc25vd2llYy5wbC9pbWFnZXMvNjc0cHgtSW5mb3JtYXRpb25fbWFnbmlmaWVyX2ljb24ucG5nNTFhNzEucG5n"/>
          <p:cNvPicPr/>
          <p:nvPr/>
        </p:nvPicPr>
        <p:blipFill>
          <a:blip r:embed="rId1"/>
          <a:stretch/>
        </p:blipFill>
        <p:spPr>
          <a:xfrm>
            <a:off x="395280" y="4797360"/>
            <a:ext cx="1798560" cy="16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1"/>
          <p:cNvSpPr/>
          <p:nvPr/>
        </p:nvSpPr>
        <p:spPr>
          <a:xfrm>
            <a:off x="45720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600" spc="-1" strike="noStrike">
                <a:solidFill>
                  <a:srgbClr val="0065b0"/>
                </a:solidFill>
                <a:latin typeface="Arial"/>
                <a:ea typeface="Arial"/>
              </a:rPr>
              <a:t>Давайте подум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76000" y="980640"/>
            <a:ext cx="73436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0000" indent="-11700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Задача: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Систематизируйте г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  <a:ea typeface="Arial"/>
              </a:rPr>
              <a:t>рафическую информацию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, произведя сортировку 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  <a:ea typeface="Arial"/>
              </a:rPr>
              <a:t>по основному признаку предмет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1214280"/>
            <a:ext cx="1357200" cy="1347840"/>
          </a:xfrm>
          <a:prstGeom prst="rect">
            <a:avLst/>
          </a:prstGeom>
          <a:ln w="0">
            <a:noFill/>
          </a:ln>
        </p:spPr>
      </p:pic>
      <p:grpSp>
        <p:nvGrpSpPr>
          <p:cNvPr id="186" name="Группа 49"/>
          <p:cNvGrpSpPr/>
          <p:nvPr/>
        </p:nvGrpSpPr>
        <p:grpSpPr>
          <a:xfrm>
            <a:off x="395280" y="1502280"/>
            <a:ext cx="9214920" cy="4941360"/>
            <a:chOff x="395280" y="1502280"/>
            <a:chExt cx="9214920" cy="4941360"/>
          </a:xfrm>
        </p:grpSpPr>
        <p:pic>
          <p:nvPicPr>
            <p:cNvPr id="187" name="Picture 17" descr="http://img.playground.ru/images/8/1/Weltmeister_kn_60_72_II_311.gif"/>
            <p:cNvPicPr/>
            <p:nvPr/>
          </p:nvPicPr>
          <p:blipFill>
            <a:blip r:embed="rId2"/>
            <a:stretch/>
          </p:blipFill>
          <p:spPr>
            <a:xfrm>
              <a:off x="3252600" y="2855160"/>
              <a:ext cx="2643120" cy="26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5" descr="http://www.centrlan.net/files/gant_2.jpg"/>
            <p:cNvPicPr/>
            <p:nvPr/>
          </p:nvPicPr>
          <p:blipFill>
            <a:blip r:embed="rId3"/>
            <a:stretch/>
          </p:blipFill>
          <p:spPr>
            <a:xfrm>
              <a:off x="3096000" y="4788000"/>
              <a:ext cx="194256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9" descr="http://img-fotki.yandex.ru/get/4423/119528728.12cb/0_b93ee_1d96eca1_XL"/>
            <p:cNvPicPr/>
            <p:nvPr/>
          </p:nvPicPr>
          <p:blipFill>
            <a:blip r:embed="rId4"/>
            <a:stretch/>
          </p:blipFill>
          <p:spPr>
            <a:xfrm>
              <a:off x="5824440" y="2355120"/>
              <a:ext cx="1861560" cy="18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1" descr="http://www.knews.kg/files/media/43/43320.jpg"/>
            <p:cNvPicPr/>
            <p:nvPr/>
          </p:nvPicPr>
          <p:blipFill>
            <a:blip r:embed="rId5"/>
            <a:stretch/>
          </p:blipFill>
          <p:spPr>
            <a:xfrm>
              <a:off x="395280" y="4145040"/>
              <a:ext cx="257148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3" descr="http://img-fotki.yandex.ru/get/4808/svetlera.85/0_52086_511dc6ee_L"/>
            <p:cNvPicPr/>
            <p:nvPr/>
          </p:nvPicPr>
          <p:blipFill>
            <a:blip r:embed="rId6"/>
            <a:stretch/>
          </p:blipFill>
          <p:spPr>
            <a:xfrm>
              <a:off x="5757840" y="3930840"/>
              <a:ext cx="1923840" cy="23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5" descr="http://jili-bili.ru/files/dynatone/big/arm101873.jpg"/>
            <p:cNvPicPr/>
            <p:nvPr/>
          </p:nvPicPr>
          <p:blipFill>
            <a:blip r:embed="rId7"/>
            <a:stretch/>
          </p:blipFill>
          <p:spPr>
            <a:xfrm flipH="1">
              <a:off x="6747840" y="2926440"/>
              <a:ext cx="2862360" cy="35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7" descr="http://img0.liveinternet.ru/images/attach/c/2/69/25/69025985_1294622460_24.png"/>
            <p:cNvPicPr/>
            <p:nvPr/>
          </p:nvPicPr>
          <p:blipFill>
            <a:blip r:embed="rId8"/>
            <a:stretch/>
          </p:blipFill>
          <p:spPr>
            <a:xfrm rot="19872600">
              <a:off x="7434000" y="1699920"/>
              <a:ext cx="1342440" cy="20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9" descr="http://img-fotki.yandex.ru/get/5818/4243123.21/0_86e27_f13df4ea_XL"/>
            <p:cNvPicPr/>
            <p:nvPr/>
          </p:nvPicPr>
          <p:blipFill>
            <a:blip r:embed="rId9"/>
            <a:stretch/>
          </p:blipFill>
          <p:spPr>
            <a:xfrm>
              <a:off x="2323800" y="2498040"/>
              <a:ext cx="1199160" cy="20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3" descr="http://4put.ru/pictures/max/597/1836243.gif"/>
            <p:cNvPicPr/>
            <p:nvPr/>
          </p:nvPicPr>
          <p:blipFill>
            <a:blip r:embed="rId10"/>
            <a:stretch/>
          </p:blipFill>
          <p:spPr>
            <a:xfrm rot="1519200">
              <a:off x="5072400" y="4691880"/>
              <a:ext cx="1213560" cy="14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37" descr="http://vizitop.com/images/201012/source_img/p-16572.jpg"/>
            <p:cNvPicPr/>
            <p:nvPr/>
          </p:nvPicPr>
          <p:blipFill>
            <a:blip r:embed="rId11"/>
            <a:stretch/>
          </p:blipFill>
          <p:spPr>
            <a:xfrm>
              <a:off x="680760" y="2426400"/>
              <a:ext cx="198612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9" descr="http://www.nn.ru/data/forum/files/2012-01/45601273-trumpet-2.gif"/>
            <p:cNvPicPr/>
            <p:nvPr/>
          </p:nvPicPr>
          <p:blipFill>
            <a:blip r:embed="rId12"/>
            <a:stretch/>
          </p:blipFill>
          <p:spPr>
            <a:xfrm>
              <a:off x="3324240" y="1926360"/>
              <a:ext cx="2571480" cy="134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Багетная рамка 31"/>
          <p:cNvSpPr/>
          <p:nvPr/>
        </p:nvSpPr>
        <p:spPr>
          <a:xfrm>
            <a:off x="92880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32"/>
          <p:cNvGrpSpPr/>
          <p:nvPr/>
        </p:nvGrpSpPr>
        <p:grpSpPr>
          <a:xfrm>
            <a:off x="346680" y="1916280"/>
            <a:ext cx="8797320" cy="5240880"/>
            <a:chOff x="346680" y="1916280"/>
            <a:chExt cx="8797320" cy="5240880"/>
          </a:xfrm>
        </p:grpSpPr>
        <p:pic>
          <p:nvPicPr>
            <p:cNvPr id="200" name="Picture 17" descr="http://img.playground.ru/images/8/1/Weltmeister_kn_60_72_II_311.gif"/>
            <p:cNvPicPr/>
            <p:nvPr/>
          </p:nvPicPr>
          <p:blipFill>
            <a:blip r:embed="rId13"/>
            <a:stretch/>
          </p:blipFill>
          <p:spPr>
            <a:xfrm>
              <a:off x="3286080" y="2416320"/>
              <a:ext cx="2643120" cy="26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5" descr="http://www.centrlan.net/files/gant_2.jpg"/>
            <p:cNvPicPr/>
            <p:nvPr/>
          </p:nvPicPr>
          <p:blipFill>
            <a:blip r:embed="rId14"/>
            <a:stretch/>
          </p:blipFill>
          <p:spPr>
            <a:xfrm>
              <a:off x="7072560" y="2826720"/>
              <a:ext cx="194256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9" descr="http://img-fotki.yandex.ru/get/4423/119528728.12cb/0_b93ee_1d96eca1_XL"/>
            <p:cNvPicPr/>
            <p:nvPr/>
          </p:nvPicPr>
          <p:blipFill>
            <a:blip r:embed="rId15"/>
            <a:stretch/>
          </p:blipFill>
          <p:spPr>
            <a:xfrm>
              <a:off x="6929640" y="3821760"/>
              <a:ext cx="1861560" cy="18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1" descr="http://www.knews.kg/files/media/43/43320.jpg"/>
            <p:cNvPicPr/>
            <p:nvPr/>
          </p:nvPicPr>
          <p:blipFill>
            <a:blip r:embed="rId16"/>
            <a:stretch/>
          </p:blipFill>
          <p:spPr>
            <a:xfrm>
              <a:off x="3286080" y="3916440"/>
              <a:ext cx="257148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3" descr="http://img-fotki.yandex.ru/get/4808/svetlera.85/0_52086_511dc6ee_L"/>
            <p:cNvPicPr/>
            <p:nvPr/>
          </p:nvPicPr>
          <p:blipFill>
            <a:blip r:embed="rId17"/>
            <a:stretch/>
          </p:blipFill>
          <p:spPr>
            <a:xfrm>
              <a:off x="2505240" y="3773520"/>
              <a:ext cx="192384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5" descr="http://jili-bili.ru/files/dynatone/big/arm101873.jpg"/>
            <p:cNvPicPr/>
            <p:nvPr/>
          </p:nvPicPr>
          <p:blipFill>
            <a:blip r:embed="rId18"/>
            <a:srcRect l="25133" t="0" r="24961" b="0"/>
            <a:stretch/>
          </p:blipFill>
          <p:spPr>
            <a:xfrm flipH="1">
              <a:off x="5143680" y="2416320"/>
              <a:ext cx="1428480" cy="35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9" descr="http://img-fotki.yandex.ru/get/5818/4243123.21/0_86e27_f13df4ea_XL"/>
            <p:cNvPicPr/>
            <p:nvPr/>
          </p:nvPicPr>
          <p:blipFill>
            <a:blip r:embed="rId19"/>
            <a:stretch/>
          </p:blipFill>
          <p:spPr>
            <a:xfrm>
              <a:off x="571680" y="2987640"/>
              <a:ext cx="1199160" cy="20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33" descr="http://4put.ru/pictures/max/597/1836243.gif"/>
            <p:cNvPicPr/>
            <p:nvPr/>
          </p:nvPicPr>
          <p:blipFill>
            <a:blip r:embed="rId20"/>
            <a:stretch/>
          </p:blipFill>
          <p:spPr>
            <a:xfrm rot="1519200">
              <a:off x="1180800" y="3748320"/>
              <a:ext cx="1213200" cy="14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37" descr="http://vizitop.com/images/201012/source_img/p-16572.jpg"/>
            <p:cNvPicPr/>
            <p:nvPr/>
          </p:nvPicPr>
          <p:blipFill>
            <a:blip r:embed="rId21"/>
            <a:stretch/>
          </p:blipFill>
          <p:spPr>
            <a:xfrm>
              <a:off x="7157880" y="4630680"/>
              <a:ext cx="198612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39" descr="http://www.nn.ru/data/forum/files/2012-01/45601273-trumpet-2.gif"/>
            <p:cNvPicPr/>
            <p:nvPr/>
          </p:nvPicPr>
          <p:blipFill>
            <a:blip r:embed="rId22"/>
            <a:stretch/>
          </p:blipFill>
          <p:spPr>
            <a:xfrm rot="19629000">
              <a:off x="3374280" y="5220000"/>
              <a:ext cx="2571480" cy="13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7" descr="http://img0.liveinternet.ru/images/attach/c/2/69/25/69025985_1294622460_24.png"/>
            <p:cNvPicPr/>
            <p:nvPr/>
          </p:nvPicPr>
          <p:blipFill>
            <a:blip r:embed="rId23"/>
            <a:stretch/>
          </p:blipFill>
          <p:spPr>
            <a:xfrm rot="19872600">
              <a:off x="752040" y="4618080"/>
              <a:ext cx="1342440" cy="20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Прямоугольник 44"/>
            <p:cNvSpPr/>
            <p:nvPr/>
          </p:nvSpPr>
          <p:spPr>
            <a:xfrm>
              <a:off x="718920" y="2487600"/>
              <a:ext cx="10220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Цв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оугольник 45"/>
            <p:cNvSpPr/>
            <p:nvPr/>
          </p:nvSpPr>
          <p:spPr>
            <a:xfrm>
              <a:off x="3391200" y="1987560"/>
              <a:ext cx="208728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Музыкальные</a:t>
              </a:r>
              <a:br>
                <a:rPr sz="2400"/>
              </a:b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инстр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оугольник 46"/>
            <p:cNvSpPr/>
            <p:nvPr/>
          </p:nvSpPr>
          <p:spPr>
            <a:xfrm>
              <a:off x="7012080" y="1916280"/>
              <a:ext cx="182376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Спортив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инвентар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47"/>
            <p:cNvSpPr/>
            <p:nvPr/>
          </p:nvSpPr>
          <p:spPr>
            <a:xfrm flipH="1">
              <a:off x="2498760" y="2701800"/>
              <a:ext cx="1440" cy="3714840"/>
            </a:xfrm>
            <a:prstGeom prst="line">
              <a:avLst/>
            </a:prstGeom>
            <a:ln w="38160">
              <a:solidFill>
                <a:srgbClr val="984807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48"/>
            <p:cNvSpPr/>
            <p:nvPr/>
          </p:nvSpPr>
          <p:spPr>
            <a:xfrm flipH="1">
              <a:off x="6786720" y="2701800"/>
              <a:ext cx="1440" cy="3714840"/>
            </a:xfrm>
            <a:prstGeom prst="line">
              <a:avLst/>
            </a:prstGeom>
            <a:ln w="38160">
              <a:solidFill>
                <a:srgbClr val="984807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5b0"/>
                </a:solidFill>
                <a:latin typeface="Arial"/>
                <a:ea typeface="Arial"/>
              </a:rPr>
              <a:t>Поиск ин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5286240" y="2714760"/>
            <a:ext cx="3643560" cy="207396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5c8a"/>
                </a:solidFill>
                <a:latin typeface="Arial"/>
                <a:ea typeface="Arial"/>
              </a:rPr>
              <a:t>Если информация систематизирована, то поиск осуществляется быстр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одержимое 5"/>
          <p:cNvSpPr/>
          <p:nvPr/>
        </p:nvSpPr>
        <p:spPr>
          <a:xfrm>
            <a:off x="1143000" y="1285920"/>
            <a:ext cx="77868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Поиск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– важнейший вид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8"/>
          <p:cNvSpPr/>
          <p:nvPr/>
        </p:nvSpPr>
        <p:spPr>
          <a:xfrm>
            <a:off x="1214280" y="3429000"/>
            <a:ext cx="3643560" cy="207396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c8a"/>
                </a:solidFill>
                <a:latin typeface="Arial"/>
                <a:ea typeface="Arial"/>
              </a:rPr>
              <a:t>Поиск необходимой информации производится в некотором хранилище информ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Овал 9"/>
          <p:cNvGrpSpPr/>
          <p:nvPr/>
        </p:nvGrpSpPr>
        <p:grpSpPr>
          <a:xfrm>
            <a:off x="493560" y="3103560"/>
            <a:ext cx="884520" cy="878040"/>
            <a:chOff x="493560" y="3103560"/>
            <a:chExt cx="884520" cy="878040"/>
          </a:xfrm>
        </p:grpSpPr>
        <p:pic>
          <p:nvPicPr>
            <p:cNvPr id="221" name="Овал 9" descr=""/>
            <p:cNvPicPr/>
            <p:nvPr/>
          </p:nvPicPr>
          <p:blipFill>
            <a:blip r:embed="rId1"/>
            <a:stretch/>
          </p:blipFill>
          <p:spPr>
            <a:xfrm>
              <a:off x="493560" y="3103560"/>
              <a:ext cx="8845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646200" y="3252960"/>
              <a:ext cx="53028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0"/>
          <p:cNvGrpSpPr/>
          <p:nvPr/>
        </p:nvGrpSpPr>
        <p:grpSpPr>
          <a:xfrm>
            <a:off x="4529160" y="2457360"/>
            <a:ext cx="884160" cy="882720"/>
            <a:chOff x="4529160" y="2457360"/>
            <a:chExt cx="884160" cy="882720"/>
          </a:xfrm>
        </p:grpSpPr>
        <p:pic>
          <p:nvPicPr>
            <p:cNvPr id="224" name="Овал 10" descr=""/>
            <p:cNvPicPr/>
            <p:nvPr/>
          </p:nvPicPr>
          <p:blipFill>
            <a:blip r:embed="rId2"/>
            <a:stretch/>
          </p:blipFill>
          <p:spPr>
            <a:xfrm>
              <a:off x="4529160" y="2457360"/>
              <a:ext cx="88416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9"/>
            <p:cNvSpPr/>
            <p:nvPr/>
          </p:nvSpPr>
          <p:spPr>
            <a:xfrm>
              <a:off x="4681440" y="2610000"/>
              <a:ext cx="53028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5" descr="D:\Личные_документы\Елена\КАРТИНКИ\8894533.png"/>
          <p:cNvPicPr/>
          <p:nvPr/>
        </p:nvPicPr>
        <p:blipFill>
          <a:blip r:embed="rId3"/>
          <a:stretch/>
        </p:blipFill>
        <p:spPr>
          <a:xfrm>
            <a:off x="4143240" y="4786200"/>
            <a:ext cx="2024280" cy="2024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7" name="Picture 6" descr="D:\Личные_документы\Елена\КАРТИНКИ\портфель и земной шар.png"/>
          <p:cNvPicPr/>
          <p:nvPr/>
        </p:nvPicPr>
        <p:blipFill>
          <a:blip r:embed="rId4"/>
          <a:stretch/>
        </p:blipFill>
        <p:spPr>
          <a:xfrm>
            <a:off x="6643800" y="4500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Содержимое 2"/>
          <p:cNvSpPr/>
          <p:nvPr/>
        </p:nvSpPr>
        <p:spPr>
          <a:xfrm>
            <a:off x="395280" y="1285920"/>
            <a:ext cx="874872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а информации — это решение информационной задачи, или процесс перехода от исходных данных к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а информации бывает двух тип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обработка, связанная с получением нового содержания, новой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обработка, связанная с изменением формы представления информации, но не изменяющая её содерж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042920" y="907560"/>
            <a:ext cx="761544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первом столбце таблицы перечислены объекты, сгруппированные по класс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основания этих классификаций: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57168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8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42960" y="2214720"/>
          <a:ext cx="8215200" cy="3754440"/>
        </p:xfrm>
        <a:graphic>
          <a:graphicData uri="http://schemas.openxmlformats.org/drawingml/2006/table">
            <a:tbl>
              <a:tblPr/>
              <a:tblGrid>
                <a:gridCol w="4572000"/>
                <a:gridCol w="364320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е класс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к, медведь, лиса, за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тье, пиджак, рубашка, брю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6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но, пальто, радио, шосс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ерёза, тополь, рябина, ли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иственница, кедр, ель, со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6" name="Багетная рамка 10"/>
          <p:cNvSpPr/>
          <p:nvPr/>
        </p:nvSpPr>
        <p:spPr>
          <a:xfrm>
            <a:off x="64296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42960" y="2214720"/>
          <a:ext cx="8215200" cy="3749400"/>
        </p:xfrm>
        <a:graphic>
          <a:graphicData uri="http://schemas.openxmlformats.org/drawingml/2006/table">
            <a:tbl>
              <a:tblPr/>
              <a:tblGrid>
                <a:gridCol w="4572000"/>
                <a:gridCol w="364320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е класс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к, медведь, лиса, за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Живот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тье, пиджак, рубашка, брю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деж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но, пальто, радио, шосс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Существительные среднего р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ерёза, тополь, рябина, ли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иственные деревь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иственница, кедр, ель, со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Хвойные деревь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123</cp:lastModifiedBy>
  <dcterms:modified xsi:type="dcterms:W3CDTF">2015-02-19T10:47:15Z</dcterms:modified>
  <cp:revision>34</cp:revision>
  <dc:subject/>
  <dc:title>Презентация PowerPoint</dc:title>
</cp:coreProperties>
</file>